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1A0-3208-457B-8CF7-C45B122C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D2B-4CD9-43D4-950C-10F710AD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BA5F6-9406-44D8-A266-E51D4028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C0C6E-3867-4C99-8F55-73DF2E0F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A0B03-5CF5-44ED-81EC-263FFA79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C027B-3DBA-4045-8763-DCC4E62A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59032-5D29-4194-930E-C8C20D13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69DFD-0648-44C6-981A-FECAD154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BB872-DD6C-46B8-BFAC-62D40659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80497-121E-432F-9D19-1DA743DF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D12AF-9E11-49C2-8BA7-40227EA1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57B04-7806-41BF-81F0-2AD1559C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DFF-F141-4F3F-B721-9EF9BC95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C3CAF-DB66-4DB4-BDA9-C46F1078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F6451-71CC-44A7-A244-4711E81B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C2944-6427-49FA-87FD-47F32BF9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1383C-3DEC-47CF-AC59-E137775E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DB9CC-03A2-49B5-AF23-728DFE06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2610E-9311-4F09-B967-D5F0A845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73DE3-B0AD-4CDF-8604-98D5A9D8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ED20F-10E7-42B5-8B77-D612BAF2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253CD-040A-4C21-B6A0-FC21B917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AD95A-CDBD-41D2-9CAD-A093A20A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051-3840-4481-99D1-C3E88568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F8583-BE57-47DD-A3FC-C1E86404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DEDF6-5334-4A26-B7D4-3B1BEDA3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FF1C3-1B38-43AD-8941-AD83765D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85A5D-ED4D-4D54-9955-A08005BD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BA7C8-922A-40B2-B38D-06A54B66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A93F7-F5E4-427D-A18C-C0486BAE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90C1D-EB17-4B19-ADED-14C54518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00C27-D9EB-44F8-877E-609961D9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405EF-F659-436B-81B7-C3B1754E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63C54-A739-4EDD-A0E1-E02DF26E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4F32-9C64-425E-B039-B0420006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71DE0-0486-4493-9FAA-3CE43C05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9FEDC-F8C9-4DA2-B437-D6BE48C3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8F50F-BB37-42DB-AC05-79BF5E2B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5B945-4BC0-4E65-8630-65973937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F52E2-8228-4497-AB51-F280ED4E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17A23-E590-464C-B178-D476E0CD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78E83-8FD2-4F85-8B6C-A8D79AC2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3D936-DC2B-471B-9682-2D64434A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00E13-AE65-44AC-8507-F62B7A03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9289B-E6F4-40DB-B545-E8F17818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1DC8-D53C-4F29-9222-DFB299F4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FE5A5-AF4A-4AB2-80BE-43B6857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F9596-CBD1-412D-BC4B-607ADD5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2AA2B-7DCD-43F1-94A8-62E7497E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3865E-06D4-48E5-800C-497D365A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32F20-7548-479E-AF40-8AA7088F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1C4E1-3B0F-452F-9DBF-F793806C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840D5-81C3-4223-859F-86E1D217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34AED-B97B-47A6-B74E-843E65E5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825CE-BF5E-4503-B9BE-0D5B19D7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5F749-360D-4E87-BA1F-8E54B448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5356-57A3-4542-B389-E73EA114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01E92-B171-4F37-BE9F-954EFD80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0EC42-C301-4768-849A-CFE35C56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AEAF5-961D-4695-B5E0-B9F1E3C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02382-80C3-4472-8F84-0B187C29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9AE5C-A73C-4E88-A6EC-BF1FF8E5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613A8-2C48-407E-8FE0-EE7DEC29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FC375-9690-4AC8-81D8-9E815871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71567-B8B0-40BD-BCDA-4240D18A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EDCF0-8AF8-4D90-AF81-975C64BA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81838-F8CA-4250-9DFC-32EA3617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1A70-EE17-4B6E-BB68-9961B5B1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C44A3-8BDD-408F-AD17-C963E8BF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14235-F0E8-4F01-AD08-619908D8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570D0-B381-47F8-957E-3536B7AB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D69D3-A2DC-474C-B5DC-1025784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9D797-1F09-4BB8-8C46-DC3007D7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F5E41-1DAF-41AC-82F6-099983D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FC5EB-7E1B-45F5-8A94-B5E24566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1A629-AC51-4F6C-90E9-5A64897B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12C11-E364-4799-AE3E-BA729456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9A7E4-6D9A-4CB1-A683-F76BA755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0D3E-4D3F-4327-BC41-BDD044A4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DA97D-0FB7-41F3-B98C-08AD499E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5DBC6-3408-464D-ABC3-6E0A9178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542F9-92A6-414A-B22F-FE27A950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D51A60-899E-4492-AFB4-EFA9EDDD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3785F-8A78-40D8-875F-D64818C3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D2F05C-9AEC-4BBD-BDCF-416AC5AA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721DC-C96F-4B82-B4DB-E4BC979C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454BD-4936-4D0D-9A49-BE07251E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5D3E63-46B8-4478-B320-19897204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84012-9D72-4523-975D-2C7F76CA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856B-FE8A-4D56-851E-671F053C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41153-D7EE-41A2-8896-E6BD7F1E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6F903-F3BD-4493-ACF2-4841A30B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66497-2F54-4E8C-AD81-62969785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F61DA-F853-41BB-8908-C8339A69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A978E-042C-4D27-AED0-E3C31C64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77DF3-4D34-4617-BAFF-FEAB5E2B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80394-8FCF-41B8-80FF-D5FB8390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E5D397-5B5B-4B5C-933A-8FA11C7B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2C89B-CFBC-4D6D-BF4A-92CB34E3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5D3A8-163E-410B-A914-D2171CF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45D6-B530-422C-A7E0-E29F7F5F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3391AE-EB63-4526-AE86-FED6659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FCA57-B1D5-4F85-9742-BC770E65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72A8C-0227-4EC4-BF4B-FEBDD672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B9C76-7107-404B-96FB-E987E3F4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78290-2B45-4C26-8CA6-D99C6256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548AA-B210-4EBF-8A23-2114854E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399894-3786-4466-8E23-1D97F3A5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52192-408A-4022-B5BC-4978087E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A1DFB-88BE-4EBD-9AFA-51D8193B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9604A-8A9C-4DB7-81F4-38E8808D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049-9287-4569-BB13-103AD2BD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7655-9DEC-4721-9DE2-32CBDFFB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29979-5EE0-490B-83EF-03ECDD14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F27F9-A4C7-4D50-B4EA-AED074D6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2CC2F-ED80-440C-BCC3-632B3178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3FAD11-8994-4467-96AE-9749843E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35F052-B39C-4759-A849-2678CF86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7A659-7230-47F7-A4AF-721A732E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782E5-8C33-41A5-96F1-FF101BEC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BAB874-7776-4E0C-9D1F-C32D6238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C2835-2165-4B3C-A25D-541E6889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9B866-1FEA-4916-AA94-97930699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B845-4E06-47C2-8D01-ABA4AE6A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61BEA0-C893-4721-9F6C-3C6D0C7E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6348C-1866-45C1-AB77-42DFF1BF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4D6A92-0D8F-42AC-A641-81880C82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A1FF7-A5DD-46AE-B667-62E67F49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4B3AA-D0CD-4863-BCA6-F3B614E8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8CD94-84A6-46F6-8169-CF5AF391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804BD-D269-47CA-9790-C800EC72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233358-CD9A-4DAD-8F82-CC7A7AE5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9F377-7A06-46E2-ADCF-A9C1AC8B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B252A-B0B4-470D-95AB-F665F2D7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2CA9-F7A1-4704-8FD4-3C07A982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2FD294-8617-4695-9AC2-0F600565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E5005-B354-4AC7-A5B5-53439606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7F84F-3480-4B57-9B03-26AB212F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9F1121-E72C-408C-A6A2-CA7B22B4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5F40B4-49A8-433A-A5D8-371EB132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43E45-A7CC-48B3-B91E-FE6D5CE8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9077D8-2C82-4EA8-9CA8-5C683C9B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F7A54-A199-4F23-B568-9363EBB3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C9BDAA-DCF4-45E3-899E-FFCE66F3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59AAAF-5814-4660-BE05-5A945258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83BE-93E5-4EE5-A3C3-EDD52020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C12FE3-71A0-4261-B8AA-A9EE75A8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56923-114E-4D2F-8C9E-07490450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84976-A51D-49E2-B420-F5C71A18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42BCBB-2DCA-427F-B913-0E5E21D6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7C0EE7-1419-494D-B5B2-F2EF6F7F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BACD01-1391-4372-98FE-F4404B99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910F8-A490-430D-A7DF-B8D63F7B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D2D209-FDA3-46D8-AF95-C2AD0E32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DC4CC6-B200-42B7-A1CE-6A056C72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008E9B-033F-4E73-BBEC-58DB8040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AABE-C369-483F-9612-9CE7777D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4497B9-AD6B-4FB3-AD3A-FB08A67C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F9DF9-A0DD-44CE-B1D3-AAB0CFBB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37D99-EC59-464E-99C8-E539C89E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EF5CED-1744-4922-836C-9785DE1F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B5D129-E3D8-4594-AB1D-AF5EEE5B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93DBA2-4A55-45AC-B74F-1612D5C9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694955-A396-49E7-BDF3-5D71A6DD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845A6-DB5D-4705-A4DE-122C67D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91B864-EDF7-447E-ACAE-2C7E6158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3B1B43-5BF6-4586-9341-9B529CBA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B955-F0FA-4C3E-B105-5FBE0579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52D8B5-B3DE-4AE8-AA04-740B84A5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F3A3E9-B736-4EB8-985F-7C6BCC09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0BC01B-74DD-46E6-888F-75A2AEE5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DBD9-869B-47C6-B1A1-CFFFD7C1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A93C-2B90-4517-9B01-EFCC86F9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0AE9-DF40-4577-B331-AC64F1DB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00A7-8AF1-480D-BB0C-082F2FCD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A85-C1BB-4F8A-A48C-2105BBC0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E85D-097C-424A-96BA-F7C6C21B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1247-6066-4B71-BBBE-A829AC30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E2EC-AF7F-4CD5-995F-2833E4B2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A727-C5CD-47A3-80FB-4FFD477B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3B08-DDB2-4A87-80C8-A5F4BC4F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28C52-5B14-42DA-92D9-9694D667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75BF-CF42-4E5B-98B4-C1B4AF9D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C750-24B4-472A-BB1D-63A6DC39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8C974-2333-44A7-8D7C-B3CC9BBE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71F28-2D9D-4657-8148-171178AA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33B-0706-41A0-A41B-1416ACB3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7A314-D305-4DC4-ABFE-57993007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05A8-102D-4768-9F2B-A9CBD7EB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9DDEB-78F3-47BE-BFEF-5FA826DB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7679-AFC3-4A99-AA4D-DAF26E27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56889-09F6-4199-A1F5-45F418F1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47885-0719-46F0-8B9B-526849CB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01A2-261F-4D0D-9581-E21FA7A1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80BB9-EAD5-40FF-BC14-498400E4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888A0-B80F-4163-B0E1-0867B6BD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9F04E-BFCC-404F-8562-B3E441B3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AE5-0461-4E48-A9F8-CB237F26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DFC85-E0FD-48A7-82B7-C82534DC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1EA2A-7C47-40C0-8343-8FE74388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18A03-BF25-424F-AC75-97B3EEC7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F3D44-3CD7-4A77-90B8-121FDC7B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64FC6-4F20-4CC2-9398-0F601A4E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E2E54-99E8-4B7F-ABD7-A340DD0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59753-B463-4C77-95DE-5914A393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7A538-2A75-42A3-86DF-8CDC6397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02DE6-792E-4B26-B6D0-BD30F00C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62522-BE07-44E2-9ED1-769373B4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52C-C914-42EE-B697-1550297B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5103F-ACA8-4549-8281-A29BFBB0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64FEB-FD86-4C03-8E76-3C9B4A6A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C63CC-5E08-49FF-9470-6ED27581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EEE98-43BC-46B0-93C2-6BA60625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ADEAE-29F4-4255-9AE5-596E8143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2549C-FB6E-4FAA-AC6B-38231539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6612A-3174-452A-8B37-6FAAB26E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33F86-7E92-4469-B63A-D0AFE30D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E53AC-96AD-4D17-9098-BD8E6C29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D216D-C3E6-446E-AEF4-F6640E79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724-387F-4EA0-8427-D8F0A58E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A6922-D72A-49D7-97C2-5D869075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0A13D-9E00-4A4B-AD2D-9FD4A2C0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F9967-2593-4723-A312-1DBE23C5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AB762-17FB-4438-9D38-6940FCDA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2D3DE-CC1B-42CE-BED3-8EEB7515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BE3FC-1766-428E-82B0-653A93A8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4D7ED-061D-4C50-9FA5-509CEC4F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1D0C4-44A9-42A9-8A94-1F1ECE57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B2F08-1DA7-44DD-BED3-18AE27BD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F9832-C1AB-444B-ABFC-D346F82C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525-B6FB-42FE-88B3-1D2E921D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E97A3-60C2-4199-8D0C-DED4CFDE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1BDE2-AE6B-450C-8B0E-E4D1E6AE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80FA8-D2D9-47BE-9ED0-F1E7B01A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ECC69-05DE-4ED0-9B79-D3ACBECD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4DE5C-28D0-4829-B652-28331868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91119-921E-4427-A420-BBDE8578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BF545-6D3C-4A53-A509-85ED7670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1A108-56D0-4A26-8BA3-89856993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B97A9-5987-44F9-ABD1-85E4F90A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6B56D-AEA8-471C-9989-1EEF323A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FC2-2845-4403-A8F6-44196905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C1F32-AD7E-4BDF-A023-0DD2587A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6BEEB-5009-4869-A568-A9BCF31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D820A-482B-44EA-BB52-B30EAC85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B7130-C70E-4646-8FEA-D411C4CC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FB5F1-6230-402D-AA0E-D826B915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CC942-4398-4DE4-B662-B81E13E6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BB7C-74F9-4623-9414-28DE9DE2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7628D-06FE-437B-A10E-1FBAF04F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0A006-CEC5-495E-8268-9B88D731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BEB14-2C55-41D9-A353-646A962C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F465-5E70-47AD-8F98-43D4C83BC2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BC13-5F7D-4F0C-B71F-9B85863741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004E-EDD1-4F5B-8B7D-97FE04C80A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9143-5A17-456F-BE48-8374D4B426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1E4F-2867-492D-8F0E-5C85D9CFDF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5063-64ED-4DE4-A6F9-24EDE6E242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3B24-F8DF-4838-A726-063022B182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0199-BF81-4107-B66D-A3908FEA02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23B2-DBBE-4BE2-B4D1-772E0338DC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3069-D5EC-4D65-8D0E-7A4DE7655C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1CA6-A456-4C97-8929-E684813CA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7196-8844-4E8E-825B-A6440116C8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D78C-DEEC-45E3-A87D-A545BC0B07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4629-EDB7-4394-AC7B-6BE69FF9D8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A480-7294-4B8A-8985-4196E759D0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B909-2206-4F4A-ADE2-FD4AC4284B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9A2B-EC39-4D74-AF46-6D30C36C85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C5FB-51CE-4A01-A937-66413E7846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4761-E08A-4AC6-B320-E7F283FF28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0030-64F5-4CFA-B70B-E392851A65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20E8-80D5-45ED-82D5-A00F11F513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5B99-416B-4EAD-BB96-6B2CB8B21B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41AA-BDF6-44A0-AFD1-4A7C6952FD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0C1-D205-4641-9E36-67245028F3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73E1-F98E-45F8-BC4A-708923F5D7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B675-661F-48A6-967B-67CCE92CB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D5F4-8AE9-438D-9542-F6B15937B3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8504-5DA7-4D5F-A952-4C22FE7828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DA71-88BE-41A2-8EF5-7C21E98C09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E219-C390-4A3D-AA76-F5E7B4CE0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5166-9C15-41F0-A2EC-BEF69A8CA7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4BF3-652B-404E-A2AC-13D8441BA5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8142-16EF-4A2D-A460-66736C8E36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7EAA-B8DE-403E-BADA-2A460EF3B4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0F4E-5449-4493-AF64-EE0EE3BCCF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BBE7-9C88-436C-AC82-D9E5D65805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A281-8BB4-400C-B5A4-D01C248139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90C0-4D12-4936-8B9C-FABFA0F5B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43BA-7229-4B0A-ABBB-3C70F5FD5E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0671-A892-4372-B836-D5DF941E35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09440" y="1598760"/>
            <a:ext cx="8317080" cy="8841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897200" y="3527280"/>
            <a:ext cx="59338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69633" descr=""/>
          <p:cNvPicPr/>
          <p:nvPr/>
        </p:nvPicPr>
        <p:blipFill>
          <a:blip r:embed="rId1"/>
          <a:stretch/>
        </p:blipFill>
        <p:spPr>
          <a:xfrm>
            <a:off x="1328760" y="1197000"/>
            <a:ext cx="6486480" cy="224784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69634" descr=""/>
          <p:cNvPicPr/>
          <p:nvPr/>
        </p:nvPicPr>
        <p:blipFill>
          <a:blip r:embed="rId2"/>
          <a:stretch/>
        </p:blipFill>
        <p:spPr>
          <a:xfrm>
            <a:off x="557280" y="3529080"/>
            <a:ext cx="8029440" cy="2276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4586400" y="1469880"/>
            <a:ext cx="576000" cy="7351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7236000" y="1455840"/>
            <a:ext cx="576000" cy="7347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4486320" y="2276640"/>
            <a:ext cx="576360" cy="7347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7236000" y="2320920"/>
            <a:ext cx="576000" cy="7351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2397240" y="3789360"/>
            <a:ext cx="576000" cy="7351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5176800" y="3803760"/>
            <a:ext cx="576360" cy="7347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7956720" y="3774960"/>
            <a:ext cx="647640" cy="7351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2124000" y="4653000"/>
            <a:ext cx="647640" cy="7351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1"/>
          <a:stretch/>
        </p:blipFill>
        <p:spPr>
          <a:xfrm>
            <a:off x="4788000" y="4653000"/>
            <a:ext cx="647640" cy="7351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2"/>
          <a:stretch/>
        </p:blipFill>
        <p:spPr>
          <a:xfrm>
            <a:off x="7812000" y="4667400"/>
            <a:ext cx="64764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480960" y="851040"/>
            <a:ext cx="8182080" cy="596268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29" descr=""/>
          <p:cNvPicPr/>
          <p:nvPr/>
        </p:nvPicPr>
        <p:blipFill>
          <a:blip r:embed="rId2"/>
          <a:stretch/>
        </p:blipFill>
        <p:spPr>
          <a:xfrm>
            <a:off x="250920" y="23760"/>
            <a:ext cx="3146400" cy="8841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234040" y="52722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219640" y="623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7408800" y="42642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7423200" y="52434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7408800" y="62085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633240" y="933480"/>
            <a:ext cx="7877520" cy="4991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5508720" y="2133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7596360" y="2133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1619280" y="3284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3203640" y="5316480"/>
            <a:ext cx="863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285840" y="1886040"/>
            <a:ext cx="8572320" cy="3085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52908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3529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7632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290520" y="1019160"/>
            <a:ext cx="8562960" cy="4819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900000" y="2363760"/>
            <a:ext cx="360072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826920" y="2924280"/>
            <a:ext cx="360072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755640" y="3573360"/>
            <a:ext cx="5329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295200" y="1623960"/>
            <a:ext cx="8553600" cy="3610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80836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826920" y="4164120"/>
            <a:ext cx="799308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304920" y="1852560"/>
            <a:ext cx="8534160" cy="31528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37432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374328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826920" y="4379760"/>
            <a:ext cx="763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4276" descr=""/>
          <p:cNvPicPr/>
          <p:nvPr/>
        </p:nvPicPr>
        <p:blipFill>
          <a:blip r:embed="rId1"/>
          <a:stretch/>
        </p:blipFill>
        <p:spPr>
          <a:xfrm>
            <a:off x="314280" y="1881360"/>
            <a:ext cx="8515440" cy="30952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3959280" cy="493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395928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755640" y="4379760"/>
            <a:ext cx="763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276120" y="147600"/>
            <a:ext cx="8591760" cy="6562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6408720" cy="555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6408720" cy="555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971640" y="5013360"/>
            <a:ext cx="6408720" cy="555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900000" y="5676840"/>
            <a:ext cx="79930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4:2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